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31E4-CA46-4D8B-B930-BA1EA86CA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FE39-0E86-49FE-94C0-DA3B1F3AF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8784-5E67-4A35-ACE2-920A4660C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D8DF-54BC-4940-9DA9-5C5B372BA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22EB-494E-4193-96FD-E387CCB89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F367-C8D1-4BA1-85BE-36183899C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021C-7C16-457F-A4D7-3E8523E97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3292-B139-4315-987A-88C2ECAFD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2C47-90A7-4AF2-B082-8881A7881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CF69-2B58-4972-B67E-192DC5033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070D-F8CD-4E3B-B5C9-EEAA7B7FC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6E3A-46E2-4BA2-8E0C-0A8F8C52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438-A13E-4BAA-8A05-15E3F178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6921-3F73-4C83-B495-2F4E674E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7F9D-5C87-426B-8116-2AFECFA8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306D-CA60-40B7-8905-CAD6C75A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EDB2-FC14-4D95-8B30-5C9B7988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962B-B822-4689-9EA1-85F5A6B9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0FF4-6899-41C8-9BDC-3AEC1A11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4837-1457-4D6F-B911-6429DFEF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C272-E553-4BF0-B969-24F4D476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80B3-A2B8-4964-9C23-F5E45F6A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49BA-1BDE-4290-ACB2-C88842EB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0E5F-7E7E-4077-B4B6-4938D613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8197-8C06-40CD-9210-3BB0742E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3293-22B6-410C-ADCA-7BA509F4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8858-5B7E-4FD2-A872-58DA8D24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14EC-F3A8-4033-A798-319F7850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28C14-940F-4164-AE15-72E77B48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A69CD-4A2A-43AC-B8AE-CEA71E40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FB22F-65C8-457A-99EF-543AB447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78E1C-3E6C-4116-A267-C9123F78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300AE-3CC0-43E5-8025-9E8E974A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D065-DC8C-42E5-8C5D-39FF6025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887F2-7EFA-4626-AC90-7418EB8C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79FC7-D2AF-445F-A54C-958F5AE3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5692C-B582-4301-AD50-6CC1EC4B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AB9B7-0AD4-4381-AFA5-DABC4FB3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B68F0-3E8A-4C75-BC84-3A7A40A8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1C348-0539-488C-8A9A-6B700C2C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B12C8-4D24-475E-A755-6E174464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BEC28-D5D8-4D2D-8C77-384DFC1B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98A97-24F2-4235-88B4-763AA55D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1A1C3-6830-496A-BCA1-D3CF0DF1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559B-9706-4546-A850-1901D640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A5C90-ADEF-4BEF-8E51-33120860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5B239-5BF0-4AC9-9E87-C2FC5C40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80B60-B708-4B94-B3B6-ABE1B745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614D7-3CB6-4D5F-8E86-0E07A750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24B77-86D4-4F00-B37B-185DE7DA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D269D-6B96-4E43-B430-C1DDEA03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F1BF8-9225-4AB0-BC19-CC903682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67B33-10EF-4B38-A917-0EBA69B2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9B254-FE8F-4CEB-BAEF-08A1FCC5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2656-69DC-463E-8BAF-B73D6E7C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58F6-922E-4B68-B6F2-6EB16202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706-0CC6-4C35-BCB4-3ACA51D3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866A-096C-4A43-907C-7F36D33A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FB8-70F4-40BC-AEC6-D2D0ED45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90D3-B59A-44F1-9471-40A9493D4F5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1F20-049F-4396-8ABA-7A03C334B97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12E1-AFE1-4D5F-B50E-A6CA227A1CF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10B3-19CD-4D34-8689-871CF244F4F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682560" y="927000"/>
            <a:ext cx="8339040" cy="18036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85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amie Hamilton, SL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ura Schroader, SL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achMeet – July, 201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fc6"/>
                </a:solidFill>
                <a:latin typeface="Constantia"/>
              </a:rPr>
              <a:t>Tier 3</a:t>
            </a:r>
            <a:r>
              <a:rPr b="0" lang="en-US" sz="3000" spc="-1" strike="noStrike">
                <a:solidFill>
                  <a:srgbClr val="0f6fc6"/>
                </a:solidFill>
                <a:latin typeface="Constanti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Teacher administers direct modifications to assist students’ speech- language progress in the classroom and charts progress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Teacher returns progress data to SL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SLP re-screens and analyzes data to note progress or lack of progress during Tier 3 interven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2880" indent="-81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55640" indent="-7556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Choic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a.  The SST team chooses to continue current tier interventions (due to adequate progres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b.  The SST team chooses to progress to next tier of interventions (due to little/no progress with intervention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Referral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a.  Once Tier 3 interventions are complete, if student has made little/no overall progress, a referral meeting to discuss speech/language testing must be schedul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b.  The RTI data must be attached to the referral for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General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If a student is already receiving reading and/or language comprehension intervention services, then a language screening/interventions may be counter-productiv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If a student has been dismissed from speech/language services in the past 12 months, then speech/language interventions may be counter-productiv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Tier 1 RTI referral page must be turned in to the SLP prior to a speech/language scree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Data sheets must be returned in order for Tier 2 screening to be complet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Examples or probes can be provid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7848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dd9"/>
                </a:solidFill>
                <a:latin typeface="Constantia"/>
              </a:rPr>
              <a:t>Data Sheets Includ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ntervention Start D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ntervention End D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Goals/Obj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Dates of Intervention provi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Checklist of probes utiliz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f the student is absent, make-up interventions should take place in that wee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f the student is excessively absent, consult SLP to make arrangements for RTI exten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ntervention time-lines can be extended due to absenc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Plan a time for Interventio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dd9"/>
                </a:solidFill>
                <a:latin typeface="Constantia"/>
              </a:rPr>
              <a:t>(Ex.) late bus, specials, snac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mind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Date (mo-day-year) each time interventions are provid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Actual data(a percentage is best) on data sheet to show progres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Examples and modeling are GREAT, but data (scores) need to reflect the students actual performance on the goals listed on their data shee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If you have questions about the interventions then ask the SLP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The SLP will gather your data sheet and re-screen the student’s speech and/or language skills at the end of the intervention perio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tudent Support Team (SST) will make a decision based on intervention data and re-screening data to continue in current tier (based on adequate progress made) or move to next tier (due to no/little progress on speech/language goal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f the student stays in current tier OR moves to the next tier, then a new data form will be given to you describing timelines and goal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ferral</a:t>
            </a:r>
            <a:r>
              <a:rPr b="0" lang="en-US" sz="5000" spc="-1" strike="noStrike">
                <a:solidFill>
                  <a:srgbClr val="0f6fc6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A referral for a speech and/or language evaluation cannot be made prior to the completion of all 3 tiers of interventions targeting the speech/language areas of concer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RTI intervention/data sheets must be attached to the referral document for it to be comple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Sample 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RTI Tier 1 form (speech and lang.) - be specific, attach work s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Data sheet - Tier 2 (speech and lang.) - note date (mo-day-yr) and note score.  It is very important to include all data points requ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Data sheet - Tier 3 (speech and lang.) - note increased sessions, may include SLP as implementer. It is very important to include all data points requ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Conference summary form - completed by SLP noting progress data and recommendations. Signatures requ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378000" y="530280"/>
            <a:ext cx="8315280" cy="1152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"/>
          <p:cNvSpPr/>
          <p:nvPr/>
        </p:nvSpPr>
        <p:spPr>
          <a:xfrm>
            <a:off x="685800" y="175248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Receptive Languag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Expressive Languag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Integrative Think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peech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oc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1066680" y="2209680"/>
            <a:ext cx="7239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Understanding Language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Processing messages of increasing length and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2286000" y="213372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Vocabulary (nouns, verbs, adjectives, adver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Answering concrete questions (Who, What, When, Wh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Describing people, places, things, and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2"/>
          <p:cNvSpPr/>
          <p:nvPr/>
        </p:nvSpPr>
        <p:spPr>
          <a:xfrm>
            <a:off x="838080" y="236232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imple ana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The grasshopper is green and the snake is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Inferencing (Sarah is wearing gloves and a coat.  What is it like outsid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orting objects by more than one attribute (SIZE and COLOR) or in more than one way (OUTSIDE ITEMS) by using the same set of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109440" y="512640"/>
            <a:ext cx="8937720" cy="15541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"/>
          <p:cNvSpPr/>
          <p:nvPr/>
        </p:nvSpPr>
        <p:spPr>
          <a:xfrm>
            <a:off x="914400" y="2025720"/>
            <a:ext cx="685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ound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Phonemic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Count syl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Rhy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Beginning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Ending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109440" y="701640"/>
            <a:ext cx="866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838080" y="1981080"/>
            <a:ext cx="7239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Using appropriate social skills will enhance fluency and voic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Appropriate loudness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Good eye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Appropriate speaking rate (not rushing through mess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Not talking while others are talking to decrease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Appropriate models provided by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Tier 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Teacher has concerns or notices a delay in child's speech and or languag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Teacher gathers data/provides modifications for minimum of 30 day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Teacher consults SLP and requests RTI Tier 1 form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Speech/Language Screening completed by SL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77920" indent="-812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onstantia"/>
              </a:rPr>
              <a:t>Response to Interv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685800" y="1752480"/>
            <a:ext cx="80773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Tier 2</a:t>
            </a:r>
            <a:r>
              <a:rPr b="0" lang="en-US" sz="3200" spc="-1" strike="noStrike">
                <a:solidFill>
                  <a:srgbClr val="0f6fc6"/>
                </a:solidFill>
                <a:latin typeface="Constant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Teacher administers direct modifications to assist students’ speech progress in the classroom and charts progres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Teacher returns progress data to S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7920" indent="-812880"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  <a:ea typeface="ＭＳ Ｐゴシック"/>
              </a:rPr>
              <a:t>SLP re-screens and analyzes data to note progress or lack of progress during Tier 2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04:04:51Z</dcterms:created>
  <dc:creator>Laura Schroader</dc:creator>
  <dc:description/>
  <dc:language>en-US</dc:language>
  <cp:lastModifiedBy>user</cp:lastModifiedBy>
  <cp:lastPrinted>2012-05-04T19:15:44Z</cp:lastPrinted>
  <dcterms:modified xsi:type="dcterms:W3CDTF">2014-07-03T03:54:12Z</dcterms:modified>
  <cp:revision>27</cp:revision>
  <dc:subject/>
  <dc:title>Mrs. Schroader</dc:title>
</cp:coreProperties>
</file>