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427D-4884-42EB-9209-55B5DF383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565-C9E2-46A3-8238-53D4665A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72D-3F2E-4C23-85F9-8BB46656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9FE-9D96-4687-9556-9F95A373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229-E63B-428E-B602-C8353E6B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E50-A6FF-419C-83B1-9032B208E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794-E2B0-47B2-9641-9FD2DEA7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9E6-2886-4567-B32D-7DB6D1D0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4D3-DEE9-4E10-BB1C-DB91F633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FBB8-3857-4D41-9B25-A7CB1415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866F-00E0-4194-88F0-52928158B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D0A-E556-4A57-8847-D6A8F2BD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B7F-F590-4526-BF2D-643CA0A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6D9-B3E6-4912-B42B-211CF630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D38-05F8-427E-9D07-73FC37AE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CE46-386B-42DE-922B-43FDBE25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A57-163E-44C6-B223-5ECD7DA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D9D5-C466-4CB7-8428-03723FDD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638D-5572-40F4-8F7E-8EC1195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D909-BCF4-441A-976F-F6ED183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BD2D-D87E-4EA8-9CC2-A931534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F9D-935A-4BA9-86F7-4AF2580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CB1-4336-4A28-B230-2BA896A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288-1CC5-4A8F-B307-DD1F3EB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C56C-D61F-4A83-A454-CC7DC6E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291C-9CE2-49D5-8190-BB54CF0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7C96-5C99-44F3-8967-2C6ED593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C393-B05B-410D-A582-7D63DB8F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532E-44F4-4E75-AFD1-EF746390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BA46-9C8B-4738-9E0D-740A66A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50BE-006C-4734-AA6A-EEEDC8CD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BBBA-69E4-442A-8FE3-DEE7A1A9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8D5B-D375-4E9B-B57D-C69D80C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CED-8E33-4390-A434-E6E0704C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406A-4D3D-49DC-8AC7-EC454FB6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5271-D1E6-45D7-9495-7E85AC7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5F94-8082-4545-885E-600F5D1F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C107-FC3A-4263-8BB6-CA88F4A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66CE-39CB-4452-89D8-4BD6CFF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669D-085A-4748-9475-A0BB5FE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3B88-2AC7-4980-9845-55B1E76F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7574-02A7-4EF5-B6FB-40F5C060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F262-9587-4CFD-9B91-CC0AF8B8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595E-0D26-4A8F-BAB7-8786DE21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C41-66C8-4D11-83A9-5B33015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575E3-D11E-4389-8790-7ADE1D56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00EA-AFEA-4F5F-84F7-2EA276A6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8873-0398-42FA-9002-8D150D9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489A-8082-4633-B675-D501F11E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6A412-3B99-4449-959F-31ABEF94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8870-8BBB-4C0F-BC71-F5A1D4C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22B8-297D-4FD3-94DE-ED6F5E79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8958-CE67-4EF4-B7CF-8EDD2749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F5CC-D9F9-402C-B7E9-D7241F88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35A-14A0-452F-9E63-C94FED7D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D5B-7E05-45F8-A3BC-97613DCC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43F-C170-48B1-847F-6E338D9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5AC-DE0A-49B3-80EA-4100922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37A-9299-455B-9333-01C0E4D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D6A-FFC5-4A6B-9A91-CB2B1BDDA4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A18-2544-461B-B785-CA3779EE1A5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259-18B7-4D62-B1F5-AE3A8D2544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9AC9-9207-48FD-B69D-E6890F7CA3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8339040" cy="1803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amie Hamilton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ura Schroader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Meet – July, 201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Tier 3</a:t>
            </a: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administers direct modifications to assist students’ speech- language progress in the classroom and charts progr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returns progress data to S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SLP re-screens and analyzes data to note progress or lack of progress during Tier 3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Cho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The SST team chooses to continue current tier interventions (due to adequate progres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SST team chooses to progress to next tier of interventions (due to little/no progress with interventio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Referr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Once Tier 3 interventions are complete, if student has made little/no overall progress, a referral meeting to discuss speech/language testing must be schedu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RTI data must be attached to the referral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is already receiving reading and/or language comprehension intervention services, then a language screening/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has been dismissed from speech/language services in the past 12 months, then speech/language 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Tier 1 RTI referral page must be turned in to the SLP prior to a speech/language scre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a sheets must be returned in order for Tier 2 screening to be comple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or probes can be provid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onstantia"/>
              </a:rPr>
              <a:t>Data Sheets Inclu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Start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End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oals/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Dates of Interventi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hecklist of probes utiliz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absent, make-up interventions should take place in that wee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excessively absent, consult SLP to make arrangements for RTI exten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tervention time-lines can be extended due to abse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lan a time for Interven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dd9"/>
                </a:solidFill>
                <a:latin typeface="Constantia"/>
              </a:rPr>
              <a:t>(Ex.) late bus, specials, sna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e (mo-day-year) each time interventions are provid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ctual data(a percentage is best) on data sheet to show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and modeling are GREAT, but data (scores) need to reflect the students actual performance on the goals listed on their data she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If you have questions about the interventions then ask the SL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SLP will gather your data sheet and re-screen the student’s speech and/or language skills at the end of the intervention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tudent Support Team (SST) will make a decision based on intervention data and re-screening data to continue in current tier (based on adequate progress made) or move to next tier (due to no/little progress on speech/language goal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f the student stays in current tier OR moves to the next tier, then a new data form will be given to you describing timelines and goa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ferral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 referral for a speech and/or language evaluation cannot be made prior to the completion of all 3 tiers of interventions targeting the speech/language areas of concer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RTI intervention/data sheets must be attached to the referral document for it to be compl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Sample 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RTI Tier 1 form (speech and lang.) - be specific, attach work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2 (speech and lang.) - note date (mo-day-yr) and note score. 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3 (speech and lang.) - note increased sessions, may include SLP as implementer.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nference summary form - completed by SLP noting progress data and recommendations. Signature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378000" y="53028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17524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cept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xpress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tegrative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peech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066680" y="220968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Understanding Languag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Processing messages of increasing length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2286000" y="21337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 (nouns, verbs, adjectives, adver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nswering concrete questions (Who, What, When, 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Describing people, places, things,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838080" y="23623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mple ana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grasshopper is green and the snake is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ferencing (Sarah is wearing gloves and a coat.  What is it like outsi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rting objects by more than one attribute (SIZE and COLOR) or in more than one way (OUTSIDE ITEMS) by using the same set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937720" cy="1554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914400" y="20257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und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Count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Rhy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Beginn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End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38080" y="1981080"/>
            <a:ext cx="723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Using appropriate social skills will enhance fluency and voic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loudnes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Good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speaking rate (not rushing through mes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Not talking while others are talking to decreas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models provided b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has concerns or notices a delay in child's speech and or langu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gathers data/provides modifications for minimum of 30 d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consults SLP and requests RTI Tier 1 for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Speech/Language Screening completed by SL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1752480"/>
            <a:ext cx="80773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2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administers direct modifications to assist students’ speech progress in the classroom and charts progr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returns progress data to S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SLP re-screens and analyzes data to note progress or lack of progress during Tier 2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4:04:51Z</dcterms:created>
  <dc:creator>Laura Schroader</dc:creator>
  <dc:description/>
  <dc:language>en-US</dc:language>
  <cp:lastModifiedBy>user</cp:lastModifiedBy>
  <cp:lastPrinted>2012-05-04T19:15:44Z</cp:lastPrinted>
  <dcterms:modified xsi:type="dcterms:W3CDTF">2014-07-03T03:54:12Z</dcterms:modified>
  <cp:revision>27</cp:revision>
  <dc:subject/>
  <dc:title>Mrs. Schroader</dc:title>
</cp:coreProperties>
</file>