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37F2-15EC-4654-8F51-B91DFA889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30FC-6022-4792-8B83-24F269452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964F-3B3D-480F-BFF0-8DD328C87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9764-23C9-497A-B964-A5191A8D5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8860-0F83-4487-8F99-0B458DB0E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6515-16F4-4B9C-94AA-C093236FF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0820-0931-44FF-A1A8-EC56E0E4B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0AA2-4D79-43B2-B5F2-3D7B7A24C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7692-5D8A-4083-B531-803C82697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98CE-0282-463D-989F-5A9B2EE5A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5F5F-E9F7-43CA-933E-198D3F75F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312C-A8B5-4168-83E0-FD94003B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23B2-2A3E-4187-9519-5F7452B6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2168-FB85-45AE-8F85-B5F5C6B56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E505-D08F-450E-8832-E1C09540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ECC1-1EA8-402E-B44F-AD2F66185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9064-299F-42BA-B597-0579AC97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2570-2862-42DB-B0C7-C4AF6D9E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C8EB-1475-4214-9991-8E42C250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1E99-4BA3-4061-86DB-4F564632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3667-C9C4-4DE4-AE33-D374CFAA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307C-5ECE-407E-A60E-656BC75B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A749-B278-4426-8DA0-B590E9E9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9143-0A4D-4C72-A122-D4FD4116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FEB2-6BCB-4C8B-879D-CD4E9D66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70D8-AB53-4502-B674-8D14C287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DA4C-A54A-4DE9-9A47-94B93C38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5DE0-5DEF-493A-84CC-6E96BA6FF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302F4-A363-4F64-8095-35B259C7E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5C345-CD43-4F5A-9512-EDE7CC61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6CD95-8FAA-4ED8-808E-EBC5E0BF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490EE-EEE7-40E0-A1D3-B6902A59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33000-2882-4A34-B3FF-5A5AB7FE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48E6-9B36-47A4-8B1D-1A151C76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F0C1E-E91B-46F0-B116-6A587363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A0867-3D97-41F2-87BF-99B0EC42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4A375-199C-4ED6-BC28-49F85550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6F458-D4C3-4C7F-B246-3F863E1F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B93DC-C2EB-4F1E-94CA-E145CD74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ED3E7-073C-4239-AFB1-A2C1C8E4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DE9DE-44C9-4B47-B1DC-081798E3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2EB32-6C96-41B5-A5A4-95F318CAE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F0132-9771-44BD-B314-3E06EADC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2B100-9FD6-4B43-860F-70F2E012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C87E-802D-47CA-9841-BED72C17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B777E-B220-465B-8D58-3728CA03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E6923-B7AA-44B7-8213-11317DBA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272D2-39E5-450E-AEBD-477D882F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8AB37-0ED5-45E1-9A6B-7A0097E4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F5DA6-8A4F-444F-AD8F-04C1C3C9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F74BF-4AA8-4854-989D-F2218444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7D7F2-314D-4E40-8FC9-BE90452A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B05CB-3039-40B6-8A76-46E540031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F59AD-021A-4B90-9B2C-934B37B17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EDAB-1546-4DAF-8C0B-D0461212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9516-9CB8-4E8E-8F5D-60245A5E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00BC-469D-4418-A608-142015C8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E721-C018-4A56-B20F-B77D2B69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6161-DEF0-4AD1-BEAF-05BCAD8F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3693-1531-4D9B-8B91-9A7A07127AD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9BC1-D87C-4846-86CF-931FE27D632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BD4A-0E7F-4E52-B947-F1B07C6329B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026B-808E-4495-ACBF-C03F6B3C857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682560" y="927000"/>
            <a:ext cx="8339040" cy="18036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533160" y="2285640"/>
            <a:ext cx="785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Jamie Hamilton, SL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aura Schroader, SL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eachMeet – July, 2014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fc6"/>
                </a:solidFill>
                <a:latin typeface="Constantia"/>
              </a:rPr>
              <a:t>Tier 3</a:t>
            </a:r>
            <a:r>
              <a:rPr b="0" lang="en-US" sz="3000" spc="-1" strike="noStrike">
                <a:solidFill>
                  <a:srgbClr val="0f6fc6"/>
                </a:solidFill>
                <a:latin typeface="Constanti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Constantia"/>
              </a:rPr>
              <a:t>Teacher administers direct modifications to assist students’ speech- language progress in the classroom and charts progress da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Constantia"/>
              </a:rPr>
              <a:t>Teacher returns progress data to SL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Constantia"/>
              </a:rPr>
              <a:t>SLP re-screens and analyzes data to note progress or lack of progress during Tier 3 interven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812880" indent="-81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755640" indent="-75564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6fc6"/>
                </a:solidFill>
                <a:latin typeface="Constantia"/>
              </a:rPr>
              <a:t>Choic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755640" indent="-755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f6fc6"/>
                </a:solidFill>
                <a:latin typeface="Constantia"/>
              </a:rPr>
              <a:t>         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a.  The SST team chooses to continue current tier interventions (due to adequate progres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55640" indent="-755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         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b.  The SST team chooses to progress to next tier of interventions (due to little/no progress with intervention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55640" indent="-75564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f6fc6"/>
                </a:solidFill>
                <a:latin typeface="Constantia"/>
              </a:rPr>
              <a:t>Referral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755640" indent="-755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         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a.  Once Tier 3 interventions are complete, if student has made little/no overall progress, a referral meeting to discuss speech/language testing must be schedul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55640" indent="-755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         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b.  The RTI data must be attached to the referral for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General Inform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If a student is already receiving reading and/or language comprehension intervention services, then a language screening/interventions may be counter-productiv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If a student has been dismissed from speech/language services in the past 12 months, then speech/language interventions may be counter-productiv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Tier 1 RTI referral page must be turned in to the SLP prior to a speech/language screen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Data sheets must be returned in order for Tier 2 screening to be complete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Examples or probes can be provide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7848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dd9"/>
                </a:solidFill>
                <a:latin typeface="Constantia"/>
              </a:rPr>
              <a:t>Data Sheets Include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Intervention Start D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Intervention End D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Goals/Objecti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Dates of Intervention provid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Checklist of probes utiliz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If the student is absent, make-up interventions should take place in that wee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If the student is excessively absent, consult SLP to make arrangements for RTI extens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Intervention time-lines can be extended due to absenc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Plan a time for Intervention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dd9"/>
                </a:solidFill>
                <a:latin typeface="Constantia"/>
              </a:rPr>
              <a:t>(Ex.) late bus, specials, snack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mind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Date (mo-day-year) each time interventions are provid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Actual data(a percentage is best) on data sheet to show progres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Examples and modeling are GREAT, but data (scores) need to reflect the students actual performance on the goals listed on their data shee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If you have questions about the interventions then ask the SLP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The SLP will gather your data sheet and re-screen the student’s speech and/or language skills at the end of the intervention perio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Student Support Team (SST) will make a decision based on intervention data and re-screening data to continue in current tier (based on adequate progress made) or move to next tier (due to no/little progress on speech/language goals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If the student stays in current tier OR moves to the next tier, then a new data form will be given to you describing timelines and goal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ferral</a:t>
            </a:r>
            <a:r>
              <a:rPr b="0" lang="en-US" sz="5000" spc="-1" strike="noStrike">
                <a:solidFill>
                  <a:srgbClr val="0f6fc6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A referral for a speech and/or language evaluation cannot be made prior to the completion of all 3 tiers of interventions targeting the speech/language areas of concer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RTI intervention/data sheets must be attached to the referral document for it to be complet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Sample 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RTI Tier 1 form (speech and lang.) - be specific, attach work samp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Data sheet - Tier 2 (speech and lang.) - note date (mo-day-yr) and note score.  It is very important to include all data points requir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Data sheet - Tier 3 (speech and lang.) - note increased sessions, may include SLP as implementer. It is very important to include all data points requir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Conference summary form - completed by SLP noting progress data and recommendations. Signatures requir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itle 1" descr=""/>
          <p:cNvPicPr/>
          <p:nvPr/>
        </p:nvPicPr>
        <p:blipFill>
          <a:blip r:embed="rId1"/>
          <a:stretch/>
        </p:blipFill>
        <p:spPr>
          <a:xfrm>
            <a:off x="378000" y="530280"/>
            <a:ext cx="8315280" cy="11523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"/>
          <p:cNvSpPr/>
          <p:nvPr/>
        </p:nvSpPr>
        <p:spPr>
          <a:xfrm>
            <a:off x="685800" y="1752480"/>
            <a:ext cx="78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Receptive Language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Expressive Language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Integrative Think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Speech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Fl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Socia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"/>
          <p:cNvSpPr/>
          <p:nvPr/>
        </p:nvSpPr>
        <p:spPr>
          <a:xfrm>
            <a:off x="1066680" y="2209680"/>
            <a:ext cx="7239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Understanding Language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Processing messages of increasing length and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Critical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2"/>
          <p:cNvSpPr/>
          <p:nvPr/>
        </p:nvSpPr>
        <p:spPr>
          <a:xfrm>
            <a:off x="2286000" y="2133720"/>
            <a:ext cx="457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Vocabulary (nouns, verbs, adjectives, adverb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Answering concrete questions (Who, What, When, Whe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Describing people, places, things, and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2"/>
          <p:cNvSpPr/>
          <p:nvPr/>
        </p:nvSpPr>
        <p:spPr>
          <a:xfrm>
            <a:off x="838080" y="2362320"/>
            <a:ext cx="754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Simple ana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The grasshopper is green and the snake is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Inferencing (Sarah is wearing gloves and a coat.  What is it like outsid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Sorting objects by more than one attribute (SIZE and COLOR) or in more than one way (OUTSIDE ITEMS) by using the same set of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le 1" descr=""/>
          <p:cNvPicPr/>
          <p:nvPr/>
        </p:nvPicPr>
        <p:blipFill>
          <a:blip r:embed="rId1"/>
          <a:stretch/>
        </p:blipFill>
        <p:spPr>
          <a:xfrm>
            <a:off x="109440" y="512640"/>
            <a:ext cx="8937720" cy="155412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2"/>
          <p:cNvSpPr/>
          <p:nvPr/>
        </p:nvSpPr>
        <p:spPr>
          <a:xfrm>
            <a:off x="914400" y="2025720"/>
            <a:ext cx="685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Sound 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Phonemic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Count syll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Rhy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Beginning 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Ending 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Title 1" descr=""/>
          <p:cNvPicPr/>
          <p:nvPr/>
        </p:nvPicPr>
        <p:blipFill>
          <a:blip r:embed="rId1"/>
          <a:stretch/>
        </p:blipFill>
        <p:spPr>
          <a:xfrm>
            <a:off x="109440" y="701640"/>
            <a:ext cx="8663040" cy="1150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838080" y="1981080"/>
            <a:ext cx="72392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Using appropriate social skills will enhance fluency and voice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Appropriate loudness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Good eye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Appropriate speaking rate (not rushing through mess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Not talking while others are talking to decrease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Appropriate models provided by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6fc6"/>
                </a:solidFill>
                <a:latin typeface="Constantia"/>
              </a:rPr>
              <a:t>Tier 1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Teacher has concerns or notices a delay in child's speech and or languag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Teacher gathers data/provides modifications for minimum of 30 day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Teacher consults SLP and requests RTI Tier 1 form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Speech/Language Screening completed by SLP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685800" y="1752480"/>
            <a:ext cx="807732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6fc6"/>
                </a:solidFill>
                <a:latin typeface="Constantia"/>
              </a:rPr>
              <a:t>Tier 2</a:t>
            </a:r>
            <a:r>
              <a:rPr b="0" lang="en-US" sz="3200" spc="-1" strike="noStrike">
                <a:solidFill>
                  <a:srgbClr val="0f6fc6"/>
                </a:solidFill>
                <a:latin typeface="Constanti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77920" indent="-812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77920" indent="-81288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Teacher administers direct modifications to assist students’ speech progress in the classroom and charts progres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77920" indent="-81288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77920" indent="-81288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Teacher returns progress data to S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77920" indent="-81288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77920" indent="-81288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SLP re-screens and analyzes data to note progress or lack of progress during Tier 2 interven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1T04:04:51Z</dcterms:created>
  <dc:creator>Laura Schroader</dc:creator>
  <dc:description/>
  <dc:language>en-US</dc:language>
  <cp:lastModifiedBy>user</cp:lastModifiedBy>
  <cp:lastPrinted>2012-05-04T19:15:44Z</cp:lastPrinted>
  <dcterms:modified xsi:type="dcterms:W3CDTF">2014-07-03T03:54:12Z</dcterms:modified>
  <cp:revision>27</cp:revision>
  <dc:subject/>
  <dc:title>Mrs. Schroader</dc:title>
</cp:coreProperties>
</file>