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4715-1698-4E35-990C-46B974FBA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3007-C555-48FD-B630-E5A698EFD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D553C-216D-4CDA-B62A-2B1EAB923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4AD5-659A-4EE9-845E-55CF3AF3E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093B-6AD0-4428-AE53-EB5138F9B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C1C3-0821-4744-98D8-F9658F279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E547-2BA8-450D-AD90-F07A48543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9401-5F20-45F4-8491-BF4543A7A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C3EF-3ED8-4C3E-B907-53F298792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E60C-9A4C-4571-8344-F321D527C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BF63-38CE-4DDD-A542-7FA53AB5E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0947-449E-446C-A4AB-5DA011400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CD8D-1D7A-4670-85A5-C1A2DDD4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51A7-82D6-4CEE-AE95-8C6351861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23D8-E9F6-4963-97C3-D7717BC4A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15E2A-5C22-4719-8D88-0C0E0D582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845C-4387-4959-A589-5E40F8DE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C84F-8887-44B2-8963-99E12404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A2E3-9A16-4064-9B21-65E46233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B12D-563F-4878-A90B-08FE66AD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47A25-CDD8-4723-B5B6-10CDD209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E087-01C6-4CAA-BB89-67C5408F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623C-CF8D-4CAC-8E9D-6BB30EDA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6EC8-0164-48B4-AC29-4178DD87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EB95-DBC6-441D-B085-17EFE23C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2277-B85C-42ED-B2A3-25ADB2F7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15B67-641C-4543-9FAE-547A5B00A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BF93-7E7E-41C8-9E83-FE454A5FC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C4C3C-087B-4E1C-B396-A398E2832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7F3CA-C1FE-4F60-972D-F9BB76D6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A47E9-07A9-450E-AF15-EED031FA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42E6C-E2D4-4213-A22B-649EAF64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40CB1-5771-4ACF-BF14-DD009433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5A66-31BE-419B-912E-12A03881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E3EE7-3666-4414-960A-365424C4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FFE54-64D0-41D0-A505-9CBF3F68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E34D6-1D0E-438D-AB3B-7B0E0087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39B62-CA8A-40FD-AE61-86C6F3CC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D3BE6-3B53-4834-B775-DFAC3D72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94B70-09D5-4771-A430-EE508C7C4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69D18-BA6F-4B80-9AA4-2755DB847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7BCD3-913A-47F9-B7B1-21F2889B4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B08CA-6331-4C9D-AFBE-F3B2BFF2B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75FB4-B34E-48DC-BBE5-3844A839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C4C5-25C0-484B-8658-32C8DB4F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E3061-E33D-4C88-9382-8B7BD6DD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506EE-D503-4C2C-BD6D-66B22659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FD556-704B-4A3A-A26D-BF25250E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998BE-CFDE-49C2-8ADB-4E5BABE5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106E1-7255-481D-AC0B-A852A6BF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8C4D4-006A-484F-BD36-C173F22D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7D4A6-B333-4190-8A4E-0A22534A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1B112-D805-47C6-A9BB-F4BD480BC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2C8AB-9B5B-4CCA-A842-3D39D75E9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4682-036C-44EA-8906-30DBD16D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BEA4-71B1-4A91-A8C3-E589CDBB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0FB3-F30B-473B-A23F-08C0F551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3A99-7B93-48C3-B09F-D44E5853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9D64-BD0A-4518-9D66-AAFDB839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B833-A390-4952-80EF-6766169CA7F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9922-D427-4CB4-B981-F77520FBA23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225D-285A-45EC-B14A-30EF36899F6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3AF7-FDAF-41F2-BDFA-C241B669FCA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ectangle 2" descr=""/>
          <p:cNvPicPr/>
          <p:nvPr/>
        </p:nvPicPr>
        <p:blipFill>
          <a:blip r:embed="rId1"/>
          <a:stretch/>
        </p:blipFill>
        <p:spPr>
          <a:xfrm>
            <a:off x="682560" y="927000"/>
            <a:ext cx="8339040" cy="18036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533160" y="2285640"/>
            <a:ext cx="785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Jamie Hamilton, SLP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aura Schroader, SLP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eachMeet – July, 2014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Response to Interven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fc6"/>
                </a:solidFill>
                <a:latin typeface="Constantia"/>
              </a:rPr>
              <a:t>Tier 3</a:t>
            </a:r>
            <a:r>
              <a:rPr b="0" lang="en-US" sz="3000" spc="-1" strike="noStrike">
                <a:solidFill>
                  <a:srgbClr val="0f6fc6"/>
                </a:solidFill>
                <a:latin typeface="Constanti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f6fc6"/>
                </a:solidFill>
                <a:latin typeface="Constantia"/>
              </a:rPr>
              <a:t>Teacher administers direct modifications to assist students’ speech- language progress in the classroom and charts progress da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f6fc6"/>
                </a:solidFill>
                <a:latin typeface="Constantia"/>
              </a:rPr>
              <a:t>Teacher returns progress data to SL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f6fc6"/>
                </a:solidFill>
                <a:latin typeface="Constantia"/>
              </a:rPr>
              <a:t>SLP re-screens and analyzes data to note progress or lack of progress during Tier 3 interventio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812880" indent="-81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Response to Interven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755640" indent="-75564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6fc6"/>
                </a:solidFill>
                <a:latin typeface="Constantia"/>
              </a:rPr>
              <a:t>Choic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755640" indent="-755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f6fc6"/>
                </a:solidFill>
                <a:latin typeface="Constantia"/>
              </a:rPr>
              <a:t>          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a.  The SST team chooses to continue current tier interventions (due to adequate progres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755640" indent="-755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          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b.  The SST team chooses to progress to next tier of interventions (due to little/no progress with intervention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755640" indent="-75564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0f6fc6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0f6fc6"/>
                </a:solidFill>
                <a:latin typeface="Constantia"/>
              </a:rPr>
              <a:t>Referral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755640" indent="-755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          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a.  Once Tier 3 interventions are complete, if student has made little/no overall progress, a referral meeting to discuss speech/language testing must be schedul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755640" indent="-755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          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b.  The RTI data must be attached to the referral for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General Inform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If a student is already receiving reading and/or language comprehension intervention services, then a language screening/interventions may be counter-productiv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If a student has been dismissed from speech/language services in the past 12 months, then speech/language interventions may be counter-productiv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Response to Interven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dd9"/>
                </a:solidFill>
                <a:latin typeface="Constantia"/>
              </a:rPr>
              <a:t>Tier 1 RTI referral page must be turned in to the SLP prior to a speech/language screen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dd9"/>
                </a:solidFill>
                <a:latin typeface="Constantia"/>
              </a:rPr>
              <a:t>Data sheets must be returned in order for Tier 2 screening to be complete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dd9"/>
                </a:solidFill>
                <a:latin typeface="Constantia"/>
              </a:rPr>
              <a:t>Examples or probes can be provide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Response to Interven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78487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dd9"/>
                </a:solidFill>
                <a:latin typeface="Constantia"/>
              </a:rPr>
              <a:t>Data Sheets Include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Intervention Start D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Intervention End D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Goals/Objecti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Dates of Intervention provid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Checklist of probes utiliz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Response to Interven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If the student is absent, make-up interventions should take place in that week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If the student is excessively absent, consult SLP to make arrangements for RTI extens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Intervention time-lines can be extended due to absenc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Plan a time for Intervention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dd9"/>
                </a:solidFill>
                <a:latin typeface="Constantia"/>
              </a:rPr>
              <a:t>(Ex.) late bus, specials, snack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Remind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dd9"/>
                </a:solidFill>
                <a:latin typeface="Constantia"/>
              </a:rPr>
              <a:t>Date (mo-day-year) each time interventions are provide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dd9"/>
                </a:solidFill>
                <a:latin typeface="Constantia"/>
              </a:rPr>
              <a:t>Actual data(a percentage is best) on data sheet to show progres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dd9"/>
                </a:solidFill>
                <a:latin typeface="Constantia"/>
              </a:rPr>
              <a:t>Examples and modeling are GREAT, but data (scores) need to reflect the students actual performance on the goals listed on their data shee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dd9"/>
                </a:solidFill>
                <a:latin typeface="Constantia"/>
              </a:rPr>
              <a:t>If you have questions about the interventions then ask the SLP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Response to Interven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The SLP will gather your data sheet and re-screen the student’s speech and/or language skills at the end of the intervention perio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Student Support Team (SST) will make a decision based on intervention data and re-screening data to continue in current tier (based on adequate progress made) or move to next tier (due to no/little progress on speech/language goals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If the student stays in current tier OR moves to the next tier, then a new data form will be given to you describing timelines and goal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Referral</a:t>
            </a:r>
            <a:r>
              <a:rPr b="0" lang="en-US" sz="5000" spc="-1" strike="noStrike">
                <a:solidFill>
                  <a:srgbClr val="0f6fc6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dd9"/>
                </a:solidFill>
                <a:latin typeface="Constantia"/>
              </a:rPr>
              <a:t>A referral for a speech and/or language evaluation cannot be made prior to the completion of all 3 tiers of interventions targeting the speech/language areas of concer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dd9"/>
                </a:solidFill>
                <a:latin typeface="Constantia"/>
              </a:rPr>
              <a:t>RTI intervention/data sheets must be attached to the referral document for it to be complet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Sample 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RTI Tier 1 form (speech and lang.) - be specific, attach work samp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Data sheet - Tier 2 (speech and lang.) - note date (mo-day-yr) and note score.  It is very important to include all data points requir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Data sheet - Tier 3 (speech and lang.) - note increased sessions, may include SLP as implementer. It is very important to include all data points requir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Conference summary form - completed by SLP noting progress data and recommendations. Signatures requir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Title 1" descr=""/>
          <p:cNvPicPr/>
          <p:nvPr/>
        </p:nvPicPr>
        <p:blipFill>
          <a:blip r:embed="rId1"/>
          <a:stretch/>
        </p:blipFill>
        <p:spPr>
          <a:xfrm>
            <a:off x="378000" y="530280"/>
            <a:ext cx="8315280" cy="115236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2"/>
          <p:cNvSpPr/>
          <p:nvPr/>
        </p:nvSpPr>
        <p:spPr>
          <a:xfrm>
            <a:off x="685800" y="1752480"/>
            <a:ext cx="784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Receptive Language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Expressive Language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Integrative Think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Speech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Fl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Social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2"/>
          <p:cNvSpPr/>
          <p:nvPr/>
        </p:nvSpPr>
        <p:spPr>
          <a:xfrm>
            <a:off x="1066680" y="2209680"/>
            <a:ext cx="72392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Vocabu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Understanding Language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Processing messages of increasing length and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Critical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2"/>
          <p:cNvSpPr/>
          <p:nvPr/>
        </p:nvSpPr>
        <p:spPr>
          <a:xfrm>
            <a:off x="2286000" y="2133720"/>
            <a:ext cx="4572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Vocabulary (nouns, verbs, adjectives, adverb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Answering concrete questions (Who, What, When, Whe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Describing people, places, things, and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2"/>
          <p:cNvSpPr/>
          <p:nvPr/>
        </p:nvSpPr>
        <p:spPr>
          <a:xfrm>
            <a:off x="838080" y="2362320"/>
            <a:ext cx="754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Simple ana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The grasshopper is green and the snake is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Inferencing (Sarah is wearing gloves and a coat.  What is it like outside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Sorting objects by more than one attribute (SIZE and COLOR) or in more than one way (OUTSIDE ITEMS) by using the same set of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itle 1" descr=""/>
          <p:cNvPicPr/>
          <p:nvPr/>
        </p:nvPicPr>
        <p:blipFill>
          <a:blip r:embed="rId1"/>
          <a:stretch/>
        </p:blipFill>
        <p:spPr>
          <a:xfrm>
            <a:off x="109440" y="512640"/>
            <a:ext cx="8937720" cy="155412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2"/>
          <p:cNvSpPr/>
          <p:nvPr/>
        </p:nvSpPr>
        <p:spPr>
          <a:xfrm>
            <a:off x="914400" y="2025720"/>
            <a:ext cx="6858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Sound 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Phonemic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Count syll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Rhy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Beginning S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Ending S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Title 1" descr=""/>
          <p:cNvPicPr/>
          <p:nvPr/>
        </p:nvPicPr>
        <p:blipFill>
          <a:blip r:embed="rId1"/>
          <a:stretch/>
        </p:blipFill>
        <p:spPr>
          <a:xfrm>
            <a:off x="109440" y="701640"/>
            <a:ext cx="8663040" cy="1150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838080" y="1981080"/>
            <a:ext cx="72392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Using appropriate social skills will enhance fluency and voice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Appropriate loudness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Good eye cont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Appropriate speaking rate (not rushing through mess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Not talking while others are talking to decrease 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Appropriate models provided by tea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Response to Interven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6fc6"/>
                </a:solidFill>
                <a:latin typeface="Constantia"/>
              </a:rPr>
              <a:t>Tier 1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Teacher has concerns or notices a delay in child's speech and or languag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Teacher gathers data/provides modifications for minimum of 30 day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Teacher consults SLP and requests RTI Tier 1 form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Speech/Language Screening completed by SLP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Response to Interven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685800" y="1752480"/>
            <a:ext cx="807732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6fc6"/>
                </a:solidFill>
                <a:latin typeface="Constantia"/>
              </a:rPr>
              <a:t>Tier 2</a:t>
            </a:r>
            <a:r>
              <a:rPr b="0" lang="en-US" sz="3200" spc="-1" strike="noStrike">
                <a:solidFill>
                  <a:srgbClr val="0f6fc6"/>
                </a:solidFill>
                <a:latin typeface="Constanti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77920" indent="-812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77920" indent="-81288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Teacher administers direct modifications to assist students’ speech progress in the classroom and charts progres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77920" indent="-81288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77920" indent="-81288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Teacher returns progress data to S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77920" indent="-81288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77920" indent="-81288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SLP re-screens and analyzes data to note progress or lack of progress during Tier 2 interven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31T04:04:51Z</dcterms:created>
  <dc:creator>Laura Schroader</dc:creator>
  <dc:description/>
  <dc:language>en-US</dc:language>
  <cp:lastModifiedBy>user</cp:lastModifiedBy>
  <cp:lastPrinted>2012-05-04T19:15:44Z</cp:lastPrinted>
  <dcterms:modified xsi:type="dcterms:W3CDTF">2014-07-03T03:54:12Z</dcterms:modified>
  <cp:revision>27</cp:revision>
  <dc:subject/>
  <dc:title>Mrs. Schroader</dc:title>
</cp:coreProperties>
</file>