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dt" idx="1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ftr" idx="1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 type="sldNum" idx="1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1364D-CF04-47F0-A6AB-86DD2125D5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88623-A387-424B-8FE3-E5DF0BA8D0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9BA95-1C5D-48AD-938F-279800C8D9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BA0EF-ACBB-4B0C-8432-CB78E69E1F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34B02-D591-4DCE-ADAC-B255F1237B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92113-4CC0-4AAE-B68A-D43A03DA81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F9D3F-C93A-4CCF-84C9-C601CF2DC8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4D4FF-0948-4770-B345-60FAB48187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364C8-3BA2-4416-BBA3-A777C4D6EB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D735E-6D52-41EB-8A76-3E6C811254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41D7F-5811-40CC-9122-1D6E18ECC3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9C18-88A3-43B2-A48E-59F8E5749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BDB1-4A61-4EA2-8AA1-3395A286E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08EE-528A-4FED-B6AB-D51E41326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A63C-54F5-472C-A26E-CD70232BB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0D7CB-5A93-45F2-9117-E48A30B99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8AA9B-5753-4BD7-9D44-1A062DAB6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38412-0A83-4491-8F1F-A4A99937C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48F82-81D9-4EF3-A5F8-662FF67E2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BDF71-F9CB-4908-9404-23AD8171B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3BA73-C047-40CF-85E7-42CC6E2AE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E3F67-EBC1-4C82-A0EA-2FD18ED6D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4243-8B06-47BD-A687-9CE529EAC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4D766-AACD-4878-BD7A-F46BC7ADD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852BA-6156-4408-8B4A-097126504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EB29B-C7C9-4092-8751-6935FD98A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C94D8-D57F-44B0-B052-D0B2C73A5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67442-464F-461D-A679-7BD2D3CE7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65364E-5D6E-4245-9051-D34251F4F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896C8D-B044-4222-82D8-766FC4E39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4D53F3-557A-45B8-84A5-615E38926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D8E64B-A207-4688-A1F9-0B93C2BC5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6319FC-6F68-4CE8-BE45-5EA4006A2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677C-5214-4323-BEE1-B5DDC1457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8EC6B3-E6C4-47C3-AE7A-30F8FC144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90F7BF-3802-41E7-AFA9-D507C5232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064183-BAF1-479C-9066-F406A8F16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0D011F-5A3B-439D-8AED-8ED0082EB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719E8D-B1FF-4ECD-8C34-4875FB290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262BF1-9C40-4737-A772-740B9C82F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D5BFCF-4FEA-465D-8281-2D4EB29EB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E0097A-03BE-4F89-BC30-B095272F1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C8AFB9-8874-4337-B456-C37CF5BB5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18E868-0B19-4B10-B3DD-3A9569AFA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3B7F-287E-48F3-8EE0-244B09FAE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F0CCED-F0C2-43FA-B6CA-BD7888388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91DDFC-EBA6-43B8-A092-CE96310C6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9577A9-AF00-45F8-93CA-A33B13B1B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CEA9CD-A17C-475B-ABC5-0B9E28C6D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EA1895-4793-41BE-A083-7C8BB8EA7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7C562C-2A51-4838-B2F6-5FF5AC3AE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2C177D-EF43-4E89-96AB-27ABEC0A8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9504F9-571F-431F-B792-887AF985B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EB57A0-411C-4687-A3A9-3248AC35E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061F-E1E2-4318-853B-EC4282A1E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8F33-4977-4491-BA1F-0C46F5BEC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F0CF-085D-4C93-ADFD-784D0D22B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7503-022D-4C0E-B69E-DCD9A415D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99B4-9957-45BF-951C-DB5091C22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166F1-C7C3-47CA-8297-FB1C1398AC17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A258E-1BD8-40A4-A24B-455CC5D698D7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13830-1BA5-480D-A334-DE542B53E056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F0BDF-8D04-492F-B17E-928544C1A7EF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6f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Rectangle 2" descr=""/>
          <p:cNvPicPr/>
          <p:nvPr/>
        </p:nvPicPr>
        <p:blipFill>
          <a:blip r:embed="rId1"/>
          <a:stretch/>
        </p:blipFill>
        <p:spPr>
          <a:xfrm>
            <a:off x="682560" y="927000"/>
            <a:ext cx="8339040" cy="180360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533160" y="2285640"/>
            <a:ext cx="7854840" cy="38098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Jamie Hamilton, SLP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Laura Schroader, SLP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eachMeet – July, 2014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f6fc6"/>
                </a:solidFill>
                <a:latin typeface="Constantia"/>
              </a:rPr>
              <a:t>Response to Interven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fc6"/>
                </a:solidFill>
                <a:latin typeface="Constantia"/>
              </a:rPr>
              <a:t>Tier 3</a:t>
            </a:r>
            <a:r>
              <a:rPr b="0" lang="en-US" sz="3000" spc="-1" strike="noStrike">
                <a:solidFill>
                  <a:srgbClr val="0f6fc6"/>
                </a:solidFill>
                <a:latin typeface="Constantia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lvl="1" marL="1177920" indent="-812880">
              <a:lnSpc>
                <a:spcPct val="80000"/>
              </a:lnSpc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1177920" indent="-812880">
              <a:lnSpc>
                <a:spcPct val="80000"/>
              </a:lnSpc>
              <a:spcBef>
                <a:spcPts val="64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f6fc6"/>
                </a:solidFill>
                <a:latin typeface="Constantia"/>
              </a:rPr>
              <a:t>Teacher administers direct modifications to assist students’ speech- language progress in the classroom and charts progress dat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1177920" indent="-812880">
              <a:lnSpc>
                <a:spcPct val="80000"/>
              </a:lnSpc>
              <a:spcBef>
                <a:spcPts val="64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1177920" indent="-812880">
              <a:lnSpc>
                <a:spcPct val="80000"/>
              </a:lnSpc>
              <a:spcBef>
                <a:spcPts val="64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f6fc6"/>
                </a:solidFill>
                <a:latin typeface="Constantia"/>
              </a:rPr>
              <a:t>Teacher returns progress data to SL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1177920" indent="-8128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1177920" indent="-812880">
              <a:lnSpc>
                <a:spcPct val="80000"/>
              </a:lnSpc>
              <a:spcBef>
                <a:spcPts val="64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f6fc6"/>
                </a:solidFill>
                <a:latin typeface="Constantia"/>
              </a:rPr>
              <a:t>SLP re-screens and analyzes data to note progress or lack of progress during Tier 3 intervention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1177920" indent="-812880">
              <a:lnSpc>
                <a:spcPct val="80000"/>
              </a:lnSpc>
              <a:spcBef>
                <a:spcPts val="64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812880" indent="-81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f6fc6"/>
                </a:solidFill>
                <a:latin typeface="Constantia"/>
              </a:rPr>
              <a:t>Response to Interven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755640" indent="-755640">
              <a:lnSpc>
                <a:spcPct val="9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f6fc6"/>
                </a:solidFill>
                <a:latin typeface="Constantia"/>
              </a:rPr>
              <a:t>Choices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755640" indent="-755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f6fc6"/>
                </a:solidFill>
                <a:latin typeface="Constantia"/>
              </a:rPr>
              <a:t>          </a:t>
            </a:r>
            <a:r>
              <a:rPr b="0" lang="en-US" sz="2400" spc="-1" strike="noStrike">
                <a:solidFill>
                  <a:srgbClr val="0f6fc6"/>
                </a:solidFill>
                <a:latin typeface="Constantia"/>
              </a:rPr>
              <a:t>a.  The SST team chooses to continue current tier interventions (due to adequate progress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755640" indent="-755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6fc6"/>
                </a:solidFill>
                <a:latin typeface="Constantia"/>
              </a:rPr>
              <a:t>          </a:t>
            </a:r>
            <a:r>
              <a:rPr b="0" lang="en-US" sz="2400" spc="-1" strike="noStrike">
                <a:solidFill>
                  <a:srgbClr val="0f6fc6"/>
                </a:solidFill>
                <a:latin typeface="Constantia"/>
              </a:rPr>
              <a:t>b.  The SST team chooses to progress to next tier of interventions (due to little/no progress with interventions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755640" indent="-755640">
              <a:lnSpc>
                <a:spcPct val="9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Constantia"/>
              </a:rPr>
              <a:t> </a:t>
            </a:r>
            <a:r>
              <a:rPr b="0" lang="en-US" sz="3200" spc="-1" strike="noStrike">
                <a:solidFill>
                  <a:srgbClr val="0f6fc6"/>
                </a:solidFill>
                <a:latin typeface="Constantia"/>
              </a:rPr>
              <a:t> </a:t>
            </a:r>
            <a:r>
              <a:rPr b="0" lang="en-US" sz="3200" spc="-1" strike="noStrike">
                <a:solidFill>
                  <a:srgbClr val="0f6fc6"/>
                </a:solidFill>
                <a:latin typeface="Constantia"/>
              </a:rPr>
              <a:t>Referral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755640" indent="-755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6fc6"/>
                </a:solidFill>
                <a:latin typeface="Constantia"/>
              </a:rPr>
              <a:t>          </a:t>
            </a:r>
            <a:r>
              <a:rPr b="0" lang="en-US" sz="2400" spc="-1" strike="noStrike">
                <a:solidFill>
                  <a:srgbClr val="0f6fc6"/>
                </a:solidFill>
                <a:latin typeface="Constantia"/>
              </a:rPr>
              <a:t>a.  Once Tier 3 interventions are complete, if student has made little/no overall progress, a referral meeting to discuss speech/language testing must be schedule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755640" indent="-755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6fc6"/>
                </a:solidFill>
                <a:latin typeface="Constantia"/>
              </a:rPr>
              <a:t>          </a:t>
            </a:r>
            <a:r>
              <a:rPr b="0" lang="en-US" sz="2400" spc="-1" strike="noStrike">
                <a:solidFill>
                  <a:srgbClr val="0f6fc6"/>
                </a:solidFill>
                <a:latin typeface="Constantia"/>
              </a:rPr>
              <a:t>b.  The RTI data must be attached to the referral form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f6fc6"/>
                </a:solidFill>
                <a:latin typeface="Constantia"/>
              </a:rPr>
              <a:t>General Informa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Constantia"/>
              </a:rPr>
              <a:t>If a student is already receiving reading and/or language comprehension intervention services, then a language screening/interventions may be counter-productive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Constantia"/>
              </a:rPr>
              <a:t>If a student has been dismissed from speech/language services in the past 12 months, then speech/language interventions may be counter-productive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f6fc6"/>
                </a:solidFill>
                <a:latin typeface="Constantia"/>
              </a:rPr>
              <a:t>Response to Interven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21333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dd9"/>
                </a:solidFill>
                <a:latin typeface="Constantia"/>
              </a:rPr>
              <a:t>Tier 1 RTI referral page must be turned in to the SLP prior to a speech/language screen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dd9"/>
                </a:solidFill>
                <a:latin typeface="Constantia"/>
              </a:rPr>
              <a:t>Data sheets must be returned in order for Tier 2 screening to be completed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dd9"/>
                </a:solidFill>
                <a:latin typeface="Constantia"/>
              </a:rPr>
              <a:t>Examples or probes can be provided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f6fc6"/>
                </a:solidFill>
                <a:latin typeface="Constantia"/>
              </a:rPr>
              <a:t>Response to Interven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934640"/>
            <a:ext cx="784872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9dd9"/>
                </a:solidFill>
                <a:latin typeface="Constantia"/>
              </a:rPr>
              <a:t>Data Sheets Include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ctr">
              <a:lnSpc>
                <a:spcPct val="80000"/>
              </a:lnSpc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dd9"/>
                </a:solidFill>
                <a:latin typeface="Constantia"/>
              </a:rPr>
              <a:t>Intervention Start Dat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ctr">
              <a:lnSpc>
                <a:spcPct val="80000"/>
              </a:lnSpc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ctr">
              <a:lnSpc>
                <a:spcPct val="80000"/>
              </a:lnSpc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dd9"/>
                </a:solidFill>
                <a:latin typeface="Constantia"/>
              </a:rPr>
              <a:t>Intervention End Dat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ctr">
              <a:lnSpc>
                <a:spcPct val="80000"/>
              </a:lnSpc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ctr">
              <a:lnSpc>
                <a:spcPct val="80000"/>
              </a:lnSpc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dd9"/>
                </a:solidFill>
                <a:latin typeface="Constantia"/>
              </a:rPr>
              <a:t>Goals/Objectiv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ctr">
              <a:lnSpc>
                <a:spcPct val="80000"/>
              </a:lnSpc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ctr">
              <a:lnSpc>
                <a:spcPct val="80000"/>
              </a:lnSpc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dd9"/>
                </a:solidFill>
                <a:latin typeface="Constantia"/>
              </a:rPr>
              <a:t>Dates of Intervention provide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ctr">
              <a:lnSpc>
                <a:spcPct val="80000"/>
              </a:lnSpc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ctr">
              <a:lnSpc>
                <a:spcPct val="80000"/>
              </a:lnSpc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dd9"/>
                </a:solidFill>
                <a:latin typeface="Constantia"/>
              </a:rPr>
              <a:t>Checklist of probes utilize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f6fc6"/>
                </a:solidFill>
                <a:latin typeface="Constantia"/>
              </a:rPr>
              <a:t>Response to Interven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dd9"/>
                </a:solidFill>
                <a:latin typeface="Constantia"/>
              </a:rPr>
              <a:t>If the student is absent, make-up interventions should take place in that week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dd9"/>
                </a:solidFill>
                <a:latin typeface="Constantia"/>
              </a:rPr>
              <a:t>If the student is excessively absent, consult SLP to make arrangements for RTI extensio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dd9"/>
                </a:solidFill>
                <a:latin typeface="Constantia"/>
              </a:rPr>
              <a:t>Intervention time-lines can be extended due to absences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dd9"/>
                </a:solidFill>
                <a:latin typeface="Constantia"/>
              </a:rPr>
              <a:t>Plan a time for Interventions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dd9"/>
                </a:solidFill>
                <a:latin typeface="Constantia"/>
              </a:rPr>
              <a:t>(Ex.) late bus, specials, snack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f6fc6"/>
                </a:solidFill>
                <a:latin typeface="Constantia"/>
              </a:rPr>
              <a:t>Reminder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dd9"/>
                </a:solidFill>
                <a:latin typeface="Constantia"/>
              </a:rPr>
              <a:t>Date (mo-day-year) each time interventions are provided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dd9"/>
                </a:solidFill>
                <a:latin typeface="Constantia"/>
              </a:rPr>
              <a:t>Actual data(a percentage is best) on data sheet to show progres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dd9"/>
                </a:solidFill>
                <a:latin typeface="Constantia"/>
              </a:rPr>
              <a:t>Examples and modeling are GREAT, but data (scores) need to reflect the students actual performance on the goals listed on their data sheet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dd9"/>
                </a:solidFill>
                <a:latin typeface="Constantia"/>
              </a:rPr>
              <a:t>If you have questions about the interventions then ask the SLP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f6fc6"/>
                </a:solidFill>
                <a:latin typeface="Constantia"/>
              </a:rPr>
              <a:t>Response to Interven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dd9"/>
                </a:solidFill>
                <a:latin typeface="Constantia"/>
              </a:rPr>
              <a:t>The SLP will gather your data sheet and re-screen the student’s speech and/or language skills at the end of the intervention period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dd9"/>
                </a:solidFill>
                <a:latin typeface="Constantia"/>
              </a:rPr>
              <a:t>Student Support Team (SST) will make a decision based on intervention data and re-screening data to continue in current tier (based on adequate progress made) or move to next tier (due to no/little progress on speech/language goals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dd9"/>
                </a:solidFill>
                <a:latin typeface="Constantia"/>
              </a:rPr>
              <a:t>If the student stays in current tier OR moves to the next tier, then a new data form will be given to you describing timelines and goal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f6fc6"/>
                </a:solidFill>
                <a:latin typeface="Constantia"/>
              </a:rPr>
              <a:t>Referral</a:t>
            </a:r>
            <a:r>
              <a:rPr b="0" lang="en-US" sz="5000" spc="-1" strike="noStrike">
                <a:solidFill>
                  <a:srgbClr val="0f6fc6"/>
                </a:solidFill>
                <a:latin typeface="Calibri"/>
              </a:rPr>
              <a:t>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dd9"/>
                </a:solidFill>
                <a:latin typeface="Constantia"/>
              </a:rPr>
              <a:t>A referral for a speech and/or language evaluation cannot be made prior to the completion of all 3 tiers of interventions targeting the speech/language areas of concern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dd9"/>
                </a:solidFill>
                <a:latin typeface="Constantia"/>
              </a:rPr>
              <a:t>RTI intervention/data sheets must be attached to the referral document for it to be complete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f6fc6"/>
                </a:solidFill>
                <a:latin typeface="Constantia"/>
              </a:rPr>
              <a:t>Sample Form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dd9"/>
                </a:solidFill>
                <a:latin typeface="Constantia"/>
              </a:rPr>
              <a:t>RTI Tier 1 form (speech and lang.) - be specific, attach work sampl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dd9"/>
                </a:solidFill>
                <a:latin typeface="Constantia"/>
              </a:rPr>
              <a:t>Data sheet - Tier 2 (speech and lang.) - note date (mo-day-yr) and note score.  It is very important to include all data points require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dd9"/>
                </a:solidFill>
                <a:latin typeface="Constantia"/>
              </a:rPr>
              <a:t>Data sheet - Tier 3 (speech and lang.) - note increased sessions, may include SLP as implementer. It is very important to include all data points require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dd9"/>
                </a:solidFill>
                <a:latin typeface="Constantia"/>
              </a:rPr>
              <a:t>Conference summary form - completed by SLP noting progress data and recommendations. Signatures require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Title 1" descr=""/>
          <p:cNvPicPr/>
          <p:nvPr/>
        </p:nvPicPr>
        <p:blipFill>
          <a:blip r:embed="rId1"/>
          <a:stretch/>
        </p:blipFill>
        <p:spPr>
          <a:xfrm>
            <a:off x="378000" y="530280"/>
            <a:ext cx="8315280" cy="1152360"/>
          </a:xfrm>
          <a:prstGeom prst="rect">
            <a:avLst/>
          </a:prstGeom>
          <a:ln w="0">
            <a:noFill/>
          </a:ln>
        </p:spPr>
      </p:pic>
      <p:sp>
        <p:nvSpPr>
          <p:cNvPr id="214" name="Rectangle 2"/>
          <p:cNvSpPr/>
          <p:nvPr/>
        </p:nvSpPr>
        <p:spPr>
          <a:xfrm>
            <a:off x="685800" y="1752480"/>
            <a:ext cx="7848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6fc6"/>
                </a:solidFill>
                <a:latin typeface="Constantia"/>
              </a:rPr>
              <a:t>Receptive Language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6fc6"/>
                </a:solidFill>
                <a:latin typeface="Constantia"/>
              </a:rPr>
              <a:t>Expressive Language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6fc6"/>
                </a:solidFill>
                <a:latin typeface="Constantia"/>
              </a:rPr>
              <a:t>Integrative Thinking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6fc6"/>
                </a:solidFill>
                <a:latin typeface="Constantia"/>
              </a:rPr>
              <a:t>Speech P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6fc6"/>
                </a:solidFill>
                <a:latin typeface="Constantia"/>
              </a:rPr>
              <a:t>Fl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6fc6"/>
                </a:solidFill>
                <a:latin typeface="Constantia"/>
              </a:rPr>
              <a:t>Vo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6fc6"/>
                </a:solidFill>
                <a:latin typeface="Constantia"/>
              </a:rPr>
              <a:t>Social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Title 1" descr=""/>
          <p:cNvPicPr/>
          <p:nvPr/>
        </p:nvPicPr>
        <p:blipFill>
          <a:blip r:embed="rId1"/>
          <a:stretch/>
        </p:blipFill>
        <p:spPr>
          <a:xfrm>
            <a:off x="73080" y="701640"/>
            <a:ext cx="8699400" cy="115092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2"/>
          <p:cNvSpPr/>
          <p:nvPr/>
        </p:nvSpPr>
        <p:spPr>
          <a:xfrm>
            <a:off x="1066680" y="2209680"/>
            <a:ext cx="72392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Constantia"/>
              </a:rPr>
              <a:t>Vocabul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Constantia"/>
              </a:rPr>
              <a:t>Understanding Language Concep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Constantia"/>
              </a:rPr>
              <a:t>Processing messages of increasing length and complex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Constantia"/>
              </a:rPr>
              <a:t>Critical Thi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Title 1" descr=""/>
          <p:cNvPicPr/>
          <p:nvPr/>
        </p:nvPicPr>
        <p:blipFill>
          <a:blip r:embed="rId1"/>
          <a:stretch/>
        </p:blipFill>
        <p:spPr>
          <a:xfrm>
            <a:off x="73080" y="701640"/>
            <a:ext cx="8699400" cy="115092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2"/>
          <p:cNvSpPr/>
          <p:nvPr/>
        </p:nvSpPr>
        <p:spPr>
          <a:xfrm>
            <a:off x="2286000" y="2133720"/>
            <a:ext cx="45720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Constantia"/>
              </a:rPr>
              <a:t>Vocabulary (nouns, verbs, adjectives, adverb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Constantia"/>
              </a:rPr>
              <a:t>Answering concrete questions (Who, What, When, Whe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Constantia"/>
              </a:rPr>
              <a:t>Describing people, places, things, and ev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Title 1" descr=""/>
          <p:cNvPicPr/>
          <p:nvPr/>
        </p:nvPicPr>
        <p:blipFill>
          <a:blip r:embed="rId1"/>
          <a:stretch/>
        </p:blipFill>
        <p:spPr>
          <a:xfrm>
            <a:off x="73080" y="701640"/>
            <a:ext cx="8699400" cy="1150920"/>
          </a:xfrm>
          <a:prstGeom prst="rect">
            <a:avLst/>
          </a:prstGeom>
          <a:ln w="0">
            <a:noFill/>
          </a:ln>
        </p:spPr>
      </p:pic>
      <p:sp>
        <p:nvSpPr>
          <p:cNvPr id="220" name="Rectangle 2"/>
          <p:cNvSpPr/>
          <p:nvPr/>
        </p:nvSpPr>
        <p:spPr>
          <a:xfrm>
            <a:off x="838080" y="2362320"/>
            <a:ext cx="7543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6fc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f6fc6"/>
                </a:solidFill>
                <a:latin typeface="Constantia"/>
              </a:rPr>
              <a:t>Simple analo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6fc6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f6fc6"/>
                </a:solidFill>
                <a:latin typeface="Constantia"/>
              </a:rPr>
              <a:t>The grasshopper is green and the snake is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6fc6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f6fc6"/>
                </a:solidFill>
                <a:latin typeface="Constantia"/>
              </a:rPr>
              <a:t>Inferencing (Sarah is wearing gloves and a coat.  What is it like outside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6fc6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f6fc6"/>
                </a:solidFill>
                <a:latin typeface="Constantia"/>
              </a:rPr>
              <a:t>Sorting objects by more than one attribute (SIZE and COLOR) or in more than one way (OUTSIDE ITEMS) by using the same set of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Title 1" descr=""/>
          <p:cNvPicPr/>
          <p:nvPr/>
        </p:nvPicPr>
        <p:blipFill>
          <a:blip r:embed="rId1"/>
          <a:stretch/>
        </p:blipFill>
        <p:spPr>
          <a:xfrm>
            <a:off x="109440" y="512640"/>
            <a:ext cx="8937720" cy="1554120"/>
          </a:xfrm>
          <a:prstGeom prst="rect">
            <a:avLst/>
          </a:prstGeom>
          <a:ln w="0">
            <a:noFill/>
          </a:ln>
        </p:spPr>
      </p:pic>
      <p:sp>
        <p:nvSpPr>
          <p:cNvPr id="222" name="Rectangle 2"/>
          <p:cNvSpPr/>
          <p:nvPr/>
        </p:nvSpPr>
        <p:spPr>
          <a:xfrm>
            <a:off x="914400" y="2025720"/>
            <a:ext cx="6858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6fc6"/>
                </a:solidFill>
                <a:latin typeface="Constantia"/>
              </a:rPr>
              <a:t>Sound 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6fc6"/>
                </a:solidFill>
                <a:latin typeface="Constantia"/>
              </a:rPr>
              <a:t>Phonemic aware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6fc6"/>
                </a:solidFill>
                <a:latin typeface="Constantia"/>
                <a:ea typeface="ＭＳ Ｐゴシック"/>
              </a:rPr>
              <a:t>Count syll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6fc6"/>
                </a:solidFill>
                <a:latin typeface="Constantia"/>
                <a:ea typeface="ＭＳ Ｐゴシック"/>
              </a:rPr>
              <a:t>Rhy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6fc6"/>
                </a:solidFill>
                <a:latin typeface="Constantia"/>
                <a:ea typeface="ＭＳ Ｐゴシック"/>
              </a:rPr>
              <a:t>Beginning S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6fc6"/>
                </a:solidFill>
                <a:latin typeface="Constantia"/>
                <a:ea typeface="ＭＳ Ｐゴシック"/>
              </a:rPr>
              <a:t>Ending S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Title 1" descr=""/>
          <p:cNvPicPr/>
          <p:nvPr/>
        </p:nvPicPr>
        <p:blipFill>
          <a:blip r:embed="rId1"/>
          <a:stretch/>
        </p:blipFill>
        <p:spPr>
          <a:xfrm>
            <a:off x="109440" y="701640"/>
            <a:ext cx="8663040" cy="115092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3"/>
          <p:cNvSpPr/>
          <p:nvPr/>
        </p:nvSpPr>
        <p:spPr>
          <a:xfrm>
            <a:off x="838080" y="1981080"/>
            <a:ext cx="72392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Constantia"/>
                <a:ea typeface="ＭＳ Ｐゴシック"/>
              </a:rPr>
              <a:t>Using appropriate social skills will enhance fluency and voice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Constantia"/>
                <a:ea typeface="ＭＳ Ｐゴシック"/>
              </a:rPr>
              <a:t>Appropriate loudness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Constantia"/>
                <a:ea typeface="ＭＳ Ｐゴシック"/>
              </a:rPr>
              <a:t>Good eye cont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Constantia"/>
                <a:ea typeface="ＭＳ Ｐゴシック"/>
              </a:rPr>
              <a:t>Appropriate speaking rate (not rushing through messa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Constantia"/>
                <a:ea typeface="ＭＳ Ｐゴシック"/>
              </a:rPr>
              <a:t>Not talking while others are talking to decrease compet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Constantia"/>
                <a:ea typeface="ＭＳ Ｐゴシック"/>
              </a:rPr>
              <a:t>Appropriate models provided by teac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f6fc6"/>
                </a:solidFill>
                <a:latin typeface="Constantia"/>
              </a:rPr>
              <a:t>Response to Interven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f6fc6"/>
                </a:solidFill>
                <a:latin typeface="Constantia"/>
              </a:rPr>
              <a:t>Tier 1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1177920" indent="-812880"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Constantia"/>
              </a:rPr>
              <a:t>Teacher has concerns or notices a delay in child's speech and or language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1177920" indent="-812880"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Constantia"/>
              </a:rPr>
              <a:t>Teacher gathers data/provides modifications for minimum of 30 day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1177920" indent="-812880"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Constantia"/>
              </a:rPr>
              <a:t>Teacher consults SLP and requests RTI Tier 1 form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1177920" indent="-812880"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Constantia"/>
              </a:rPr>
              <a:t>Speech/Language Screening completed by SLP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1177920" indent="-812880"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f6fc6"/>
                </a:solidFill>
                <a:latin typeface="Constantia"/>
              </a:rPr>
              <a:t>Response to Interven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Rectangle 3"/>
          <p:cNvSpPr/>
          <p:nvPr/>
        </p:nvSpPr>
        <p:spPr>
          <a:xfrm>
            <a:off x="685800" y="1752480"/>
            <a:ext cx="8077320" cy="52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12880" indent="-81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f6fc6"/>
                </a:solidFill>
                <a:latin typeface="Constantia"/>
              </a:rPr>
              <a:t>Tier 2</a:t>
            </a:r>
            <a:r>
              <a:rPr b="0" lang="en-US" sz="3200" spc="-1" strike="noStrike">
                <a:solidFill>
                  <a:srgbClr val="0f6fc6"/>
                </a:solidFill>
                <a:latin typeface="Constanti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77920" indent="-8128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77920" indent="-812880">
              <a:lnSpc>
                <a:spcPct val="100000"/>
              </a:lnSpc>
              <a:buClr>
                <a:srgbClr val="0f6fc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Constantia"/>
                <a:ea typeface="ＭＳ Ｐゴシック"/>
              </a:rPr>
              <a:t>Teacher administers direct modifications to assist students’ speech progress in the classroom and charts progress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77920" indent="-812880">
              <a:lnSpc>
                <a:spcPct val="100000"/>
              </a:lnSpc>
              <a:buClr>
                <a:srgbClr val="0f6fc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77920" indent="-812880">
              <a:lnSpc>
                <a:spcPct val="100000"/>
              </a:lnSpc>
              <a:buClr>
                <a:srgbClr val="0f6fc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Constantia"/>
                <a:ea typeface="ＭＳ Ｐゴシック"/>
              </a:rPr>
              <a:t>Teacher returns progress data to S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77920" indent="-812880">
              <a:lnSpc>
                <a:spcPct val="100000"/>
              </a:lnSpc>
              <a:buClr>
                <a:srgbClr val="0f6fc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77920" indent="-812880">
              <a:lnSpc>
                <a:spcPct val="100000"/>
              </a:lnSpc>
              <a:buClr>
                <a:srgbClr val="0f6fc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Constantia"/>
                <a:ea typeface="ＭＳ Ｐゴシック"/>
              </a:rPr>
              <a:t>SLP re-screens and analyzes data to note progress or lack of progress during Tier 2 interven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31T04:04:51Z</dcterms:created>
  <dc:creator>Laura Schroader</dc:creator>
  <dc:description/>
  <dc:language>en-US</dc:language>
  <cp:lastModifiedBy>user</cp:lastModifiedBy>
  <cp:lastPrinted>2012-05-04T19:15:44Z</cp:lastPrinted>
  <dcterms:modified xsi:type="dcterms:W3CDTF">2014-07-03T03:54:12Z</dcterms:modified>
  <cp:revision>27</cp:revision>
  <dc:subject/>
  <dc:title>Mrs. Schroader</dc:title>
</cp:coreProperties>
</file>